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ath Camppp Event.  Create a problem involving fractions within the context of you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97C1-A244-438C-80D9-0B3DF980E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38E5-8BA5-458F-891A-359E92766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0B96-D093-4828-B110-8F31B337F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2A6D-9D10-47D5-A4FC-C86A4326E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DA3-4E24-4326-8DD9-7D6027426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34ED-F548-47A1-8C29-66EBB5FEE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0DFA-7069-4F4B-A2E2-0D88B4D5C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D321-B61A-407D-8036-173CDF7B2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003E-F3AC-4390-9AF3-BB012A229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ED5D-414E-484C-807D-79F1FDDBC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D2BE-3C27-4128-B605-9B0DF01EE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3C9E-5300-4A01-937D-EDE48A7CF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787-22CA-4CEE-BFBD-EBF0BBBD5B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dblair@scdsb.on.ca" TargetMode="External"/><Relationship Id="rId2" Type="http://schemas.openxmlformats.org/officeDocument/2006/relationships/hyperlink" Target="mailto:mkestell@sympatico.ca" TargetMode="External"/><Relationship Id="rId3" Type="http://schemas.openxmlformats.org/officeDocument/2006/relationships/hyperlink" Target="mailto:Pat.Milot@dsbn.org" TargetMode="External"/><Relationship Id="rId4" Type="http://schemas.openxmlformats.org/officeDocument/2006/relationships/hyperlink" Target="mailto:d.wines@tldsb.on.ca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CAC-1F19-4098-B96A-5965B5C9F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s 4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Parks and Playgroun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980640"/>
            <a:ext cx="6923160" cy="587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solutions in groups.                 Show how much of each                empty lot was Blacktopped                   and how much left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ach solution on a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ece of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AS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wo process expectations we are emphasizing during thi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reen shot 2012-07-03 at 2.02.16 PM.png"/>
          <p:cNvPicPr/>
          <p:nvPr/>
        </p:nvPicPr>
        <p:blipFill>
          <a:blip r:embed="rId1"/>
          <a:stretch/>
        </p:blipFill>
        <p:spPr>
          <a:xfrm>
            <a:off x="5499000" y="0"/>
            <a:ext cx="364500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CAMPPP 2012 Olympics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P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uffet Eating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 people from Group 1 of the Grade 5 to 8 Breakout faced off against 5 people from Group 2 of the Grade 5 to 8 Breakout.  In 1 hour, Group 1 ate 7/8 of 10 kilograms of delicious Kempenfelt food, while Group 2 ate 5/6 of 10 kilograms.  Which group won the Buffet Eating Event by eating more f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368-2A4B-4695-B7C3-0A3E0E882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2b5ca9"/>
                </a:solidFill>
                <a:latin typeface="Arial"/>
              </a:rPr>
              <a:t>Thank you expresses only a FRACTION of our gratitude for making the Grades 4 to 8 Breakouts a rich collaborative learning experience!</a:t>
            </a:r>
            <a:br>
              <a:rPr sz="28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66520" y="1752480"/>
            <a:ext cx="3581640" cy="4267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anielle B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blair@sc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ry Lou Kes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kestell@sympatic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t M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t.Milot@dsbn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borah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.wines@tl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A30-8E95-46D7-B4C3-8B2EADB2E5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Callout 5"/>
          <p:cNvSpPr/>
          <p:nvPr/>
        </p:nvSpPr>
        <p:spPr>
          <a:xfrm>
            <a:off x="228600" y="5029200"/>
            <a:ext cx="7924680" cy="1828800"/>
          </a:xfrm>
          <a:prstGeom prst="wedgeEllipseCallout">
            <a:avLst>
              <a:gd name="adj1" fmla="val 39189"/>
              <a:gd name="adj2" fmla="val -17791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3: What is tru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bout almost n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reen shot 2012-07-02 at 2.24.14 PM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250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Getting Star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990360"/>
            <a:ext cx="8447040" cy="5327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Callout 4"/>
          <p:cNvSpPr/>
          <p:nvPr/>
        </p:nvSpPr>
        <p:spPr>
          <a:xfrm>
            <a:off x="0" y="2895480"/>
            <a:ext cx="8458200" cy="1905120"/>
          </a:xfrm>
          <a:prstGeom prst="wedgeEllipseCallout">
            <a:avLst>
              <a:gd name="adj1" fmla="val 28476"/>
              <a:gd name="adj2" fmla="val -5204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2: What is true about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pproximate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1/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Callout 6"/>
          <p:cNvSpPr/>
          <p:nvPr/>
        </p:nvSpPr>
        <p:spPr>
          <a:xfrm>
            <a:off x="0" y="838080"/>
            <a:ext cx="7162920" cy="1905120"/>
          </a:xfrm>
          <a:prstGeom prst="wedgeEllipseCallout">
            <a:avLst>
              <a:gd name="adj1" fmla="val 58245"/>
              <a:gd name="adj2" fmla="val 4658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1: What is tru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bout almost al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62E4-C9A5-43F6-BA1C-A40861EA59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osing Cerem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This, Now Th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 Bulbs and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 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1A6-CDEC-4592-869C-B40403FE3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rst This, Now Thi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the strip of paper in 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the left what you believed to be true or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the right what you believe to be true or understand 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317-CC28-4667-9F7F-973B5E6C5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Question Mark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ill you bring to your practice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1 or 2 “Light Bulbs” and “Question Marks” on the learning wall in response to the abov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5747-C466-448C-9509-7EBCCCC572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01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Investigating Operations with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352680"/>
            <a:ext cx="4637160" cy="1432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ks and Play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hy Fos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reen shot 2012-07-03 at 1.25.55 PM.png"/>
          <p:cNvPicPr/>
          <p:nvPr/>
        </p:nvPicPr>
        <p:blipFill>
          <a:blip r:embed="rId1"/>
          <a:stretch/>
        </p:blipFill>
        <p:spPr>
          <a:xfrm>
            <a:off x="914400" y="5867280"/>
            <a:ext cx="2349360" cy="7365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7" descr="Screen shot 2012-07-03 at 2.02.43 PM.png"/>
          <p:cNvPicPr/>
          <p:nvPr/>
        </p:nvPicPr>
        <p:blipFill>
          <a:blip r:embed="rId2"/>
          <a:srcRect l="0" t="-6027" r="0" b="-6027"/>
          <a:stretch/>
        </p:blipFill>
        <p:spPr>
          <a:xfrm>
            <a:off x="4572000" y="762120"/>
            <a:ext cx="39924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creen shot 2012-07-03 at 2.17.44 PM.png"/>
          <p:cNvPicPr/>
          <p:nvPr/>
        </p:nvPicPr>
        <p:blipFill>
          <a:blip r:embed="rId1"/>
          <a:stretch/>
        </p:blipFill>
        <p:spPr>
          <a:xfrm>
            <a:off x="6324480" y="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8360" y="980640"/>
            <a:ext cx="7913520" cy="5327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a read 5/8 of her book. She read 1/3 of that amount on Monday. What fraction of the whole book did she read on Mo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a read 5/8 of a book. If she read 1/5 of the book each hour, how many hours was she rea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5078520" cy="718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Let’s Do Mat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4" descr="Screen shot 2012-08-24 at 8.23.12 AM.png"/>
          <p:cNvPicPr/>
          <p:nvPr/>
        </p:nvPicPr>
        <p:blipFill>
          <a:blip r:embed="rId2"/>
          <a:srcRect l="-5286" t="0" r="-5286" b="0"/>
          <a:stretch/>
        </p:blipFill>
        <p:spPr>
          <a:xfrm>
            <a:off x="-380880" y="0"/>
            <a:ext cx="9905760" cy="722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2:11:03Z</dcterms:created>
  <dc:creator>CSC</dc:creator>
  <dc:description/>
  <dc:language>en-US</dc:language>
  <cp:lastModifiedBy>Kathy Kubota-Zarivnij</cp:lastModifiedBy>
  <dcterms:modified xsi:type="dcterms:W3CDTF">2012-08-24T13:59:24Z</dcterms:modified>
  <cp:revision>56</cp:revision>
  <dc:subject/>
  <dc:title>&lt;Title&gt;</dc:title>
</cp:coreProperties>
</file>